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6EFA-35EC-400F-8D2A-2B611468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895-DD65-4AAE-BFC8-420B1850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7A9-5631-41AD-B29E-1B6DFB5C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2F2-475D-4B21-ABAE-C41CF055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B2F2-26E7-4B50-856D-FD124924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D204-68D7-4D7E-8432-EFEB7258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3302-3365-4FC2-81EA-58020D0F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1F70-3A16-4AB1-9B27-FEDE60D1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E065-81F8-400E-8F89-CCA7D86A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BA7-204E-416E-966F-21092FB6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F53D-0260-4DC7-B9AF-28F35491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DE38-41B5-4DF1-BD4C-8558649C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4E7-79ED-4016-85CF-D9C0C10FF3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124000" y="5157720"/>
            <a:ext cx="345600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Monotype Corsiva"/>
              </a:rPr>
              <a:t>Обобщ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16000" y="476280"/>
            <a:ext cx="6192720" cy="43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исл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093000" y="3068640"/>
            <a:ext cx="239076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3300"/>
                </a:solidFill>
                <a:uFillTx/>
                <a:latin typeface="Arial"/>
              </a:rPr>
              <a:t>Кислоты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- </a:t>
            </a:r>
            <a:br>
              <a:rPr sz="4000"/>
            </a:b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лектролиты,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при диссоциации которых образуются катионы водорода и анионы кислотных остатков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CL       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CL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3H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50000">
                <a:solidFill>
                  <a:srgbClr val="000000"/>
                </a:solidFill>
                <a:latin typeface="Arial"/>
              </a:rPr>
              <a:t>3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72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406728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5445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24360" y="5589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Классификация кисл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048760" y="1524960"/>
            <a:ext cx="4902120" cy="4119480"/>
            <a:chOff x="2048760" y="1524960"/>
            <a:chExt cx="4902120" cy="4119480"/>
          </a:xfrm>
        </p:grpSpPr>
        <p:cxnSp>
          <p:nvCxnSpPr>
            <p:cNvPr id="51" name="_s13346"/>
            <p:cNvCxnSpPr>
              <a:stCxn id="52" idx="1"/>
              <a:endCxn id="53" idx="2"/>
            </p:cNvCxnSpPr>
            <p:nvPr/>
          </p:nvCxnSpPr>
          <p:spPr>
            <a:xfrm rot="10800000">
              <a:off x="3061440" y="2050200"/>
              <a:ext cx="110160" cy="345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3344"/>
            <p:cNvCxnSpPr>
              <a:stCxn id="55" idx="1"/>
              <a:endCxn id="53" idx="2"/>
            </p:cNvCxnSpPr>
            <p:nvPr/>
          </p:nvCxnSpPr>
          <p:spPr>
            <a:xfrm rot="10800000">
              <a:off x="3061440" y="2050200"/>
              <a:ext cx="110160" cy="3128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3342"/>
            <p:cNvCxnSpPr>
              <a:stCxn id="57" idx="1"/>
              <a:endCxn id="53" idx="2"/>
            </p:cNvCxnSpPr>
            <p:nvPr/>
          </p:nvCxnSpPr>
          <p:spPr>
            <a:xfrm rot="10800000">
              <a:off x="3061440" y="2050200"/>
              <a:ext cx="110160" cy="280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3340"/>
            <p:cNvCxnSpPr>
              <a:stCxn id="59" idx="1"/>
              <a:endCxn id="53" idx="2"/>
            </p:cNvCxnSpPr>
            <p:nvPr/>
          </p:nvCxnSpPr>
          <p:spPr>
            <a:xfrm rot="10800000">
              <a:off x="3061440" y="2050200"/>
              <a:ext cx="110160" cy="2473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13338"/>
            <p:cNvCxnSpPr>
              <a:stCxn id="61" idx="1"/>
              <a:endCxn id="53" idx="2"/>
            </p:cNvCxnSpPr>
            <p:nvPr/>
          </p:nvCxnSpPr>
          <p:spPr>
            <a:xfrm rot="10800000">
              <a:off x="3061440" y="2050200"/>
              <a:ext cx="110160" cy="21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13336"/>
            <p:cNvCxnSpPr>
              <a:stCxn id="63" idx="1"/>
              <a:endCxn id="53" idx="2"/>
            </p:cNvCxnSpPr>
            <p:nvPr/>
          </p:nvCxnSpPr>
          <p:spPr>
            <a:xfrm rot="10800000">
              <a:off x="3061440" y="2050200"/>
              <a:ext cx="110160" cy="1819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13334"/>
            <p:cNvCxnSpPr>
              <a:stCxn id="65" idx="1"/>
              <a:endCxn id="53" idx="2"/>
            </p:cNvCxnSpPr>
            <p:nvPr/>
          </p:nvCxnSpPr>
          <p:spPr>
            <a:xfrm rot="10800000">
              <a:off x="3061440" y="2050200"/>
              <a:ext cx="110160" cy="149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13332"/>
            <p:cNvCxnSpPr>
              <a:stCxn id="67" idx="1"/>
              <a:endCxn id="53" idx="2"/>
            </p:cNvCxnSpPr>
            <p:nvPr/>
          </p:nvCxnSpPr>
          <p:spPr>
            <a:xfrm rot="10800000">
              <a:off x="3061440" y="2050200"/>
              <a:ext cx="110160" cy="1167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13330"/>
            <p:cNvCxnSpPr>
              <a:stCxn id="69" idx="1"/>
              <a:endCxn id="53" idx="2"/>
            </p:cNvCxnSpPr>
            <p:nvPr/>
          </p:nvCxnSpPr>
          <p:spPr>
            <a:xfrm rot="10800000">
              <a:off x="3061440" y="2050200"/>
              <a:ext cx="110160" cy="840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3326"/>
            <p:cNvCxnSpPr>
              <a:stCxn id="71" idx="1"/>
              <a:endCxn id="53" idx="2"/>
            </p:cNvCxnSpPr>
            <p:nvPr/>
          </p:nvCxnSpPr>
          <p:spPr>
            <a:xfrm rot="10800000">
              <a:off x="3061440" y="2050200"/>
              <a:ext cx="110160" cy="513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2" name="_s13324"/>
            <p:cNvCxnSpPr>
              <a:stCxn id="73" idx="1"/>
              <a:endCxn id="53" idx="2"/>
            </p:cNvCxnSpPr>
            <p:nvPr/>
          </p:nvCxnSpPr>
          <p:spPr>
            <a:xfrm rot="10800000">
              <a:off x="3061440" y="2050200"/>
              <a:ext cx="110160" cy="18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13320"/>
            <p:cNvSpPr/>
            <p:nvPr/>
          </p:nvSpPr>
          <p:spPr>
            <a:xfrm>
              <a:off x="2048760" y="1524960"/>
              <a:ext cx="2028600" cy="525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00"/>
                  </a:solidFill>
                  <a:latin typeface="Arial"/>
                </a:rPr>
                <a:t>КИСЛОТЫ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3321"/>
            <p:cNvSpPr/>
            <p:nvPr/>
          </p:nvSpPr>
          <p:spPr>
            <a:xfrm>
              <a:off x="3171240" y="2096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КИСЛОРОДНЫЕ 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3323"/>
            <p:cNvSpPr/>
            <p:nvPr/>
          </p:nvSpPr>
          <p:spPr>
            <a:xfrm>
              <a:off x="3171240" y="24228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БЕСКИСЛОРОД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B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3329"/>
            <p:cNvSpPr/>
            <p:nvPr/>
          </p:nvSpPr>
          <p:spPr>
            <a:xfrm>
              <a:off x="3171240" y="27496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ОДНООСНОВНЫЕ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CL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3331"/>
            <p:cNvSpPr/>
            <p:nvPr/>
          </p:nvSpPr>
          <p:spPr>
            <a:xfrm>
              <a:off x="3171240" y="30762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ДВУХОСНОВНЫЕ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3333"/>
            <p:cNvSpPr/>
            <p:nvPr/>
          </p:nvSpPr>
          <p:spPr>
            <a:xfrm>
              <a:off x="3171240" y="34030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" rIns="828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ТРЕХОСНОВ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ru-RU" sz="15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3335"/>
            <p:cNvSpPr/>
            <p:nvPr/>
          </p:nvSpPr>
          <p:spPr>
            <a:xfrm>
              <a:off x="3171240" y="37296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720" rIns="972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ИЛЬНЫЕ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_s13337"/>
            <p:cNvSpPr/>
            <p:nvPr/>
          </p:nvSpPr>
          <p:spPr>
            <a:xfrm>
              <a:off x="3171240" y="405648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20" rIns="11520" tIns="5760" bIns="5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СЛАБЫ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3339"/>
            <p:cNvSpPr/>
            <p:nvPr/>
          </p:nvSpPr>
          <p:spPr>
            <a:xfrm>
              <a:off x="3171240" y="438300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3320" rIns="13320" tIns="6480" bIns="6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РАСТВОРИМЫЕ            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N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ru-RU" sz="14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3341"/>
            <p:cNvSpPr/>
            <p:nvPr/>
          </p:nvSpPr>
          <p:spPr>
            <a:xfrm>
              <a:off x="3171240" y="47098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5120" rIns="15120" tIns="7560" bIns="7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РАСТВОРИМЫЕ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i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3343"/>
            <p:cNvSpPr/>
            <p:nvPr/>
          </p:nvSpPr>
          <p:spPr>
            <a:xfrm>
              <a:off x="3171240" y="5036400"/>
              <a:ext cx="3779640" cy="2808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560" rIns="1656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ЛЕТУЧИЕ      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,  HCL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3345"/>
            <p:cNvSpPr/>
            <p:nvPr/>
          </p:nvSpPr>
          <p:spPr>
            <a:xfrm>
              <a:off x="3171240" y="5363280"/>
              <a:ext cx="3779640" cy="2811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Arial"/>
                </a:rPr>
                <a:t>НЕЛЕТУЧИЕ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900" spc="-1" strike="noStrike">
                  <a:solidFill>
                    <a:srgbClr val="000000"/>
                  </a:solidFill>
                  <a:latin typeface="Arial"/>
                </a:rPr>
                <a:t>                      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P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Типичные реакции кисл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снование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 NaOH =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2O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оксид металла = соль +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 HCL = C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O + 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металл = водород + со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CL +Zn = Zn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Z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яду напряжений металл должен стоять до водо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 результате реакции должна получиться растворим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Кислота + соль = новая кислота + новая с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ия: - в результате реакции должны получиться газ, ос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в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= Ba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ПРОВЕРЬ СЕБ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28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Формула кислоты эт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aO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uC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HCL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Лакмус в растворе, полученном при взаимодействии оксида серы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с водо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синий                  в) фиолет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красный              г) малин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 С раствором серной кислоты взаимодействуе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оксид магния      в) оксид фосф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оксид углерода   г) се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 Соляная кислота не взаимодействует с металл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алюминием         в) серебр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железом              г)  цинк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 Пара ионов, которая может одновременно находится в раствор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в) 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u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Н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г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 Пара веществ взаимодействующих друг с друг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Si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)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u 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O  u N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г) Н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  u  NaOH 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 baseline="30000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spcBef>
                <a:spcPts val="1001"/>
              </a:spcBef>
              <a:buClr>
                <a:srgbClr val="ff33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9T06:46:13Z</dcterms:created>
  <dc:creator>Alex</dc:creator>
  <dc:description/>
  <dc:language>en-US</dc:language>
  <cp:lastModifiedBy>Alex</cp:lastModifiedBy>
  <dcterms:modified xsi:type="dcterms:W3CDTF">2003-12-19T09:46:27Z</dcterms:modified>
  <cp:revision>17</cp:revision>
  <dc:subject/>
  <dc:title>КИСЛОТЫ</dc:title>
</cp:coreProperties>
</file>