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drumroll.wav" ContentType="audio/x-wav"/>
  <Override PartName="/ppt/media/chimes.wav" ContentType="audio/x-wav"/>
  <Override PartName="/ppt/media/wind.wav" ContentType="audio/x-wav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3.jpeg" ContentType="image/jpeg"/>
  <Override PartName="/ppt/media/image4.png" ContentType="image/png"/>
  <Override PartName="/ppt/media/applause.wav" ContentType="audio/x-wav"/>
  <Override PartName="/ppt/media/image12.jpeg" ContentType="image/jpeg"/>
  <Override PartName="/ppt/media/image6.png" ContentType="image/png"/>
  <Override PartName="/ppt/media/image3.png" ContentType="image/pn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0AF8-CC47-45A5-8C81-4058BE55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D48C-AE75-4E47-84AA-9A477DC9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AC6C-E221-4A35-84C4-D7051C96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53AE-A01A-4F57-A87F-337EBCD3E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3F78-E409-464D-815D-9B4F44CE8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DBD3-1003-4C8A-8A30-04A439BF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4451-478B-4E2D-8564-DA87F0B2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D2C7-0AE9-4517-9150-7F4DFE42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AB621-CC58-46E2-93CC-3C572D1B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0B59-5D2A-487F-B9A5-6647EE58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38DB-7C70-4032-B1C4-ABFC9369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C090-37EC-4604-ABC2-F5ADB391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D363-46A1-48EE-BCCD-D76F0E8D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565B-2D38-40F6-95C8-54A61C7D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3BE9-D3F6-4DCF-B1FD-8E1E1C3F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25FA-CD22-4F8B-A993-0648D08E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270F-C0D3-46EF-AF87-F1FAF42C8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BFDE-33F4-49EF-A3D0-3F220644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1322-A8B6-4DAC-9EB3-430C55AF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2892-4661-4459-B92E-1C72C37D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389-7F1A-4A07-AA1F-1967AAE5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0731-E3FB-4DDD-AF72-7B2C3757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D718-E0B0-4BA4-82E8-260B8956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78A8-4D65-4638-A1B6-D20457F4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648B-A6D0-4FBE-B497-89BC53603442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FA34-9A5E-4299-A70E-DA1EB8CF4565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audio" Target="../media/drumroll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wind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Народна  </a:t>
            </a: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іграшк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95280" y="1341360"/>
            <a:ext cx="7056360" cy="50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8532720" y="544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4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247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ffffff"/>
                </a:solidFill>
                <a:uFillTx/>
                <a:latin typeface="Arial"/>
              </a:rPr>
              <a:t>Мистецька абетка.</a:t>
            </a:r>
            <a:br>
              <a:rPr sz="2800"/>
            </a:br>
            <a:r>
              <a:rPr b="1" lang="uk-UA" sz="2800" spc="-1" strike="noStrike">
                <a:solidFill>
                  <a:srgbClr val="009900"/>
                </a:solidFill>
                <a:latin typeface="Arial"/>
              </a:rPr>
              <a:t>ДЕКОРАТИВНИЙ РОЗПИС</a:t>
            </a:r>
            <a:r>
              <a:rPr b="1" lang="uk-U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— </a:t>
            </a:r>
            <a:r>
              <a:rPr b="0" i="1" lang="uk-UA" sz="2800" spc="-1" strike="noStrike">
                <a:solidFill>
                  <a:srgbClr val="333399"/>
                </a:solidFill>
                <a:latin typeface="Arial"/>
              </a:rPr>
              <a:t>сюжетні або орнаментальні малярські зображення.</a:t>
            </a:r>
            <a:br>
              <a:rPr sz="2800"/>
            </a:br>
            <a:r>
              <a:rPr b="1" lang="uk-UA" sz="2800" spc="-1" strike="noStrike">
                <a:solidFill>
                  <a:srgbClr val="009900"/>
                </a:solidFill>
                <a:latin typeface="Arial"/>
              </a:rPr>
              <a:t>ОРНАМЕНТ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— </a:t>
            </a:r>
            <a:r>
              <a:rPr b="0" i="1" lang="uk-UA" sz="2800" spc="-1" strike="noStrike">
                <a:solidFill>
                  <a:srgbClr val="333399"/>
                </a:solidFill>
                <a:latin typeface="Arial"/>
              </a:rPr>
              <a:t>візерунок з ритмічно упорядкованих елементів, що використовуються для оздоблення предметів.</a:t>
            </a:r>
            <a:br>
              <a:rPr sz="2800"/>
            </a:br>
            <a:r>
              <a:rPr b="1" lang="uk-UA" sz="2800" spc="-1" strike="noStrike">
                <a:solidFill>
                  <a:srgbClr val="009900"/>
                </a:solidFill>
                <a:latin typeface="Arial"/>
              </a:rPr>
              <a:t>ДЕКОРАТИВНО-УЖИТКОВЕ МИСТЕЦТВО</a:t>
            </a:r>
            <a:r>
              <a:rPr b="1" lang="uk-UA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0" i="1" lang="uk-UA" sz="2800" spc="-1" strike="noStrike">
                <a:solidFill>
                  <a:srgbClr val="333399"/>
                </a:solidFill>
                <a:latin typeface="Arial"/>
              </a:rPr>
              <a:t>мистецтво виготовлення предметів побуту, що мають художні якості й призначаються для практичних (ужиткових) потреб людини.</a:t>
            </a:r>
            <a:br>
              <a:rPr sz="2800"/>
            </a:br>
            <a:r>
              <a:rPr b="1" lang="uk-UA" sz="2800" spc="-1" strike="noStrike">
                <a:solidFill>
                  <a:srgbClr val="009900"/>
                </a:solidFill>
                <a:latin typeface="Arial"/>
              </a:rPr>
              <a:t>СТАТУЕТКА </a:t>
            </a:r>
            <a:r>
              <a:rPr b="0" i="1" lang="uk-UA" sz="2800" spc="-1" strike="noStrike">
                <a:solidFill>
                  <a:srgbClr val="333399"/>
                </a:solidFill>
                <a:latin typeface="Arial"/>
              </a:rPr>
              <a:t>— зменшене скульптурне зображення.</a:t>
            </a:r>
            <a:r>
              <a:rPr b="0" lang="uk-UA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 advTm="15000"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35.1428580284119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3737160" cy="1809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148360" y="333360"/>
            <a:ext cx="2133360" cy="2428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250920" y="3213000"/>
            <a:ext cx="3848040" cy="31622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219640" y="3357720"/>
            <a:ext cx="1581120" cy="3009600"/>
          </a:xfrm>
          <a:prstGeom prst="rect">
            <a:avLst/>
          </a:prstGeom>
          <a:ln w="0">
            <a:noFill/>
          </a:ln>
        </p:spPr>
      </p:pic>
    </p:spTree>
  </p:cSld>
  <p:transition advTm="1000"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7345440" cy="64087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p:transition advTm="4000">
    <p:push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1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6840360" cy="633564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8" presetSubtype="16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6048360" cy="5904000"/>
          </a:xfrm>
          <a:prstGeom prst="rect">
            <a:avLst/>
          </a:prstGeom>
          <a:ln w="0">
            <a:noFill/>
          </a:ln>
        </p:spPr>
      </p:pic>
    </p:spTree>
  </p:cSld>
  <p:transition advTm="4000">
    <p:push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6337440" cy="6335640"/>
          </a:xfrm>
          <a:prstGeom prst="rect">
            <a:avLst/>
          </a:prstGeom>
          <a:ln w="0">
            <a:noFill/>
          </a:ln>
        </p:spPr>
      </p:pic>
    </p:spTree>
  </p:cSld>
  <p:transition advTm="3000">
    <p:push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63520" y="0"/>
            <a:ext cx="7386480" cy="6858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 u="sng">
                <a:solidFill>
                  <a:srgbClr val="009900"/>
                </a:solidFill>
                <a:uFillTx/>
                <a:latin typeface="Arial"/>
              </a:rPr>
              <a:t>Розпис та оформлення іграшок.</a:t>
            </a:r>
            <a:r>
              <a:rPr b="0" lang="uk-UA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В основному використовуйте гуашеві та акварельні фарб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Спочатку іграшку тонуємо (наносимо основний колір). Частіше за все обираємо білу чи жовту основу, але тон може бути й червоним, рожевим, жовтогарячим, зеленим, блакитним (до фарби додаємо білу гуаш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Гуашева фарба сохне швидко (3—5 хвилин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Потім можна оформлювати іграшку, наносити візерунки, орнаменти. Прості візерунки наносять без попередньої розмітки. (Якщо ж потрібно малювати личка ляльки чи складний орнамент, то спочатку можна   скористатися простим олівцем.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Коли візерунок не вдався або ж фарбу розвели великою кількістю води і вона розтеклася, потрібно все витерти шматочком мокрої тканин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Через кілька хвилин іграшка підсохне і можна працювати далі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817236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advTm="15000">
    <p:push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1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1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5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63520" y="188640"/>
            <a:ext cx="73864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Розписані вироби підсушуємо ще 1—2 дні, а потім лакуємо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( Лакувати іграшки слід обережно і дуже охайно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2. Після лакування треба ще кілька днів підсушити вироби у приміщенні, яке гарно провітрюється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3. Скористайся  « Скарбничкою» під  час  складання  орнаменту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817236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8000">
    <p:push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40">
                                  <p:stCondLst>
                                    <p:cond delay="600"/>
                                  </p:stCondLst>
                                  <p:iterate type="lt">
                                    <p:tmAbs val="41.30434989929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61.5384674072266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900"/>
                            </p:stCondLst>
                            <p:childTnLst>
                              <p:par>
                                <p:cTn id="1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71.9999980926514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1:56:41Z</dcterms:created>
  <dc:creator>asqwadadqwasda</dc:creator>
  <dc:description/>
  <dc:language>en-US</dc:language>
  <cp:lastModifiedBy>User</cp:lastModifiedBy>
  <dcterms:modified xsi:type="dcterms:W3CDTF">2012-02-11T19:14:30Z</dcterms:modified>
  <cp:revision>12</cp:revision>
  <dc:subject/>
  <dc:title>Мистецька абетка. ДЕКОРАТИВНИЙ РОЗПИС — сюжетні або орнаментальні малярські зображення. ОРНАМЕНТ — візерунок з ритмічно упорядкованих елементів, що використовуються для оздоблення предметів. ДЕКОРАТИВНО-УЖИТКОВЕ МИСТЕЦТВО - мистецтво виготовлення предметів побуту, що мають художні якості й призначаються для практичних (ужиткових) потреб людини. СТАТУЕТКА — зменшене скульптурне зображення. </dc:title>
</cp:coreProperties>
</file>